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762B-0312-43E6-8388-749DEEF0204B}"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5683-7D02-4E25-B191-A78B4DA3F95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EBB5-6F39-4910-BE05-F79DC7B60D71}"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0"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1"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8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8"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29"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4"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2"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3"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7"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8"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6"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7"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1"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2"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1"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59"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7"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5"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6"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1"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2"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Return on Investment: </a:t>
            </a:r>
            <a:br>
              <a:rPr sz="4800"/>
            </a:br>
            <a:r>
              <a:rPr b="0" lang="en-US" sz="4800" spc="-1" strike="noStrike">
                <a:solidFill>
                  <a:srgbClr val="000000"/>
                </a:solidFill>
                <a:latin typeface="Helvetica Neue Light"/>
              </a:rPr>
              <a:t>Return on the Scientist’s Investment</a:t>
            </a:r>
            <a:endParaRPr b="0" lang="en-US" sz="4800" spc="-1" strike="noStrike">
              <a:solidFill>
                <a:srgbClr val="000000"/>
              </a:solidFill>
              <a:latin typeface="Helvetica Neue Light"/>
            </a:endParaRPr>
          </a:p>
        </p:txBody>
      </p:sp>
      <p:sp>
        <p:nvSpPr>
          <p:cNvPr id="739" name="PlaceHolder 2"/>
          <p:cNvSpPr>
            <a:spLocks noGrp="1"/>
          </p:cNvSpPr>
          <p:nvPr>
            <p:ph/>
          </p:nvPr>
        </p:nvSpPr>
        <p:spPr>
          <a:xfrm>
            <a:off x="583920" y="5016240"/>
            <a:ext cx="11861640" cy="317484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arol Meyer, Erin Robinson</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Foundation for Earth Science</a:t>
            </a:r>
            <a:endParaRPr b="0" lang="en-US" sz="2400" spc="-1" strike="noStrike">
              <a:solidFill>
                <a:srgbClr val="606060"/>
              </a:solidFill>
              <a:latin typeface="Helvetica Neue"/>
            </a:endParaRPr>
          </a:p>
        </p:txBody>
      </p:sp>
      <p:pic>
        <p:nvPicPr>
          <p:cNvPr id="740" name="Picture 6" descr=""/>
          <p:cNvPicPr/>
          <p:nvPr/>
        </p:nvPicPr>
        <p:blipFill>
          <a:blip r:embed="rId1"/>
          <a:stretch/>
        </p:blipFill>
        <p:spPr>
          <a:xfrm>
            <a:off x="330120" y="7696080"/>
            <a:ext cx="1657440" cy="1657440"/>
          </a:xfrm>
          <a:prstGeom prst="rect">
            <a:avLst/>
          </a:prstGeom>
          <a:ln w="0">
            <a:noFill/>
          </a:ln>
        </p:spPr>
      </p:pic>
      <p:pic>
        <p:nvPicPr>
          <p:cNvPr id="741" name="Picture 5" descr=""/>
          <p:cNvPicPr/>
          <p:nvPr/>
        </p:nvPicPr>
        <p:blipFill>
          <a:blip r:embed="rId2"/>
          <a:stretch/>
        </p:blipFill>
        <p:spPr>
          <a:xfrm>
            <a:off x="2235240" y="7696080"/>
            <a:ext cx="1523880" cy="1676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3"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finition of modu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ackgroun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igh level overview</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ackground</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raditionally, science has placed high value on journal publications with high citation indexes. </a:t>
            </a:r>
            <a:br>
              <a:rPr sz="3400"/>
            </a:b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management activities have been unclearly defined</a:t>
            </a:r>
            <a:br>
              <a:rPr sz="3400"/>
            </a:b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tructures for storing data have not been reliable</a:t>
            </a:r>
            <a:br>
              <a:rPr sz="3400"/>
            </a:b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scientist don’t see data management as part of their responsibilities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turn on Investment</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cost (time, money and research risk) for scientist to perform the data management tasks needed to share data compared to the rewards or benefits that he or she gets from sharing data. </a:t>
            </a: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ositive ROI for Data Management</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repositories get far more use than journals, so data has wider reach</a:t>
            </a:r>
            <a:br>
              <a:rPr sz="3400"/>
            </a:b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increases in value and quality through multiple use</a:t>
            </a:r>
            <a:br>
              <a:rPr sz="3400"/>
            </a:b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y others sharing their data, you have access to more information to do better science.</a:t>
            </a:r>
            <a:br>
              <a:rPr sz="3400"/>
            </a:b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apture more information than is included in publication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How to Maximize your ROI</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tribute data that would benefit other researchers</a:t>
            </a:r>
            <a:br>
              <a:rPr sz="3400"/>
            </a:b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dd useful metadata to make data easier to find and access</a:t>
            </a:r>
            <a:br>
              <a:rPr sz="3400"/>
            </a:b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 </a:t>
            </a:r>
            <a:r>
              <a:rPr b="0" lang="en-US" sz="3400" spc="-1" strike="noStrike">
                <a:solidFill>
                  <a:srgbClr val="606060"/>
                </a:solidFill>
                <a:latin typeface="Helvetica Neue"/>
              </a:rPr>
              <a: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5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http://www.plantphysiol.org/content/134/2/543.short</a:t>
            </a: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5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List modules that are related</a:t>
            </a: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13:07:00Z</dcterms:created>
  <dc:creator/>
  <dc:description/>
  <cp:keywords/>
  <dc:language>en-US</dc:language>
  <cp:lastModifiedBy>Erin Robinson</cp:lastModifiedBy>
  <dcterms:modified xsi:type="dcterms:W3CDTF">2011-08-31T13:45:22Z</dcterms:modified>
  <cp:revision>36</cp:revision>
  <dc:subject/>
  <dc:title>ESIP Federation 101</dc:title>
</cp:coreProperties>
</file>